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948-CD3B-48E0-AEF2-724148AE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049-43AA-4519-89FD-856CDED6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C47-876A-43CC-A80F-8456FB1B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FC7-0DB1-45C9-92F3-BF671ED1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F19-4561-4EA2-A670-B145B273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199-3773-4AA4-97AC-DD49397D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BF0-2AEC-49E0-AFA8-EA7BE2B2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6A2-29A9-48E6-A7A2-489B2A7A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A9A-6751-4B35-8294-30377CC3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B3D-E24C-452F-8A74-69CC307D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16F-482D-4462-9E94-F17C78D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275-A989-401B-B426-D1567C88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2EC20-F03C-4448-9ED3-F6C45677B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360" y="-493560"/>
            <a:ext cx="4932360" cy="80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67280" y="-493560"/>
            <a:ext cx="4968720" cy="801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7080" y="22906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time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     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8012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time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     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5480" y="1503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Ice thickness anomaly (m)</a:t>
            </a: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54760" y="148428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Ice velocities anomaly (m/yr)</a:t>
            </a: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