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E31B1-A53B-46B0-81FD-BF891F669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7AD-F56E-4CF0-ABED-EEF480A0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CBA-5EDA-4043-9A09-D0838F9D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CEF-4C5E-4602-B152-8D8D29C7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C1C-5FFB-4BFD-8103-A53EF9F3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597-5302-4CC2-ACE9-563255D4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BBB-3066-4B79-89E2-F16DACF1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8DB-127D-454A-93DA-088F0D66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D2D-F128-4503-BCFC-00F0A292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726-04D1-433E-A3FF-3721B5CB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226-0E7D-4E82-8ABD-F281E722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607-E924-4B19-9020-CE8C5A38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FAE-FC2C-4DB7-9800-2ABEA9A5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09D92-02CD-497A-A34F-A812BA1A8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13040" y="0"/>
            <a:ext cx="5402160" cy="7543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11640" y="6521400"/>
            <a:ext cx="28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DIN Alternate"/>
              </a:rPr>
              <a:t>Labrador ice shelf break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9320" y="352440"/>
            <a:ext cx="197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time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yr BP</a:t>
            </a:r>
            <a:r>
              <a:rPr b="1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