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02D-2282-426F-8FDE-2B195729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5BA-E69B-499E-AC68-1A3FA159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268-CFDB-47D7-BF21-F7CC72F9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34D-891F-4E55-B501-0C7990E3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08E-0E68-4CD9-BE95-DCCF34A9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356-BF2F-4DA6-AA46-E9225C6C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1AC-68C8-4C34-8D10-7F39B364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779-047E-4A1A-B60E-9C3DC21F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18A-F62C-4EE7-8A0D-D199626C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AE6-EED8-4CB2-BB74-314323E2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6DD-2285-4588-B650-43EE299F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9A0-83E9-461B-9764-BC39AEA2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FE467-7842-46B3-8CD9-37E1F2A79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360" y="-493560"/>
            <a:ext cx="4932360" cy="80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967280" y="-493560"/>
            <a:ext cx="4968720" cy="801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97080" y="22906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time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	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	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	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     y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80120" y="22860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time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	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	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	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     y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5480" y="150336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ES_tradnl" sz="1800" spc="-1" strike="noStrike">
                <a:solidFill>
                  <a:srgbClr val="1c1c1c"/>
                </a:solidFill>
                <a:latin typeface="DIN Alternate"/>
              </a:rPr>
              <a:t>Ice thickness anomaly (m)</a:t>
            </a:r>
            <a:r>
              <a:rPr b="0" i="1" lang="es-ES_tradnl" sz="1800" spc="-1" strike="noStrike">
                <a:solidFill>
                  <a:srgbClr val="1c1c1c"/>
                </a:solidFill>
                <a:latin typeface="DIN Alternate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54760" y="1484280"/>
            <a:ext cx="30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ES_tradnl" sz="1800" spc="-1" strike="noStrike">
                <a:solidFill>
                  <a:srgbClr val="1c1c1c"/>
                </a:solidFill>
                <a:latin typeface="DIN Alternate"/>
              </a:rPr>
              <a:t>Ice velocities anomaly (m/yr)</a:t>
            </a:r>
            <a:r>
              <a:rPr b="0" i="1" lang="es-ES_tradnl" sz="1800" spc="-1" strike="noStrike">
                <a:solidFill>
                  <a:srgbClr val="1c1c1c"/>
                </a:solidFill>
                <a:latin typeface="DIN Alternate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