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7B740-9C8B-49BB-B78A-9AB4F07A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E66-FCD0-481F-9D71-4FF81611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43D-FB73-46EA-BAD8-833622F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306-A7B2-4A3A-8820-54C79F9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BBC-6689-4E1A-A1AB-D7F93141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96F-6611-4622-B175-68C12E6C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647-0907-421B-8383-932D2F9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757-9DC4-452D-91B3-3F1126A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F70-B907-44EC-BF87-4088F74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EE4-08F5-45A1-A05B-AAF5FCF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7BB-C44A-4D9F-95C8-6AF1A01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DF5-5490-482D-8BDA-74381B3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C66-B8CC-440C-8EEE-FB0DC74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182D7-85D0-4CE6-9005-A02883488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402160" cy="754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11640" y="652140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DIN Alternate"/>
              </a:rPr>
              <a:t>Labrador ice shelf break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9320" y="352440"/>
            <a:ext cx="197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time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yr BP</a:t>
            </a:r>
            <a:r>
              <a:rPr b="1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