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8DD-B128-4F1B-B35B-AF7C9883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B87-D5F2-4744-8D74-2460ACB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B12-5A92-43C7-9807-C302A906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56B-32B1-4B88-8B34-8A66688E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0A4-84AF-4758-9C0C-A216F41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1BF-2694-47E5-8567-3C0EF2D3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23B-B5E2-465F-8A37-8D564D36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57F-4A23-4E75-A7D7-EE6BEA67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DB2-03AD-476C-BB6D-4C059D0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D32-4AF7-4578-A7D7-4CA9E48D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79B-6513-4EB6-AF18-9E9ED6C4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985-8DDD-4C27-A256-0F3F8D21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E7A67-FA03-4719-B69E-AD1D8AE62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360" y="-493560"/>
            <a:ext cx="4932360" cy="80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67280" y="-493560"/>
            <a:ext cx="4968720" cy="801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7080" y="2290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80120" y="228600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time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	</a:t>
            </a:r>
            <a:r>
              <a:rPr b="0" lang="es-ES_tradnl" sz="1600" spc="-1" strike="noStrike">
                <a:solidFill>
                  <a:srgbClr val="1c1c1c"/>
                </a:solidFill>
                <a:latin typeface="DIN Alternate"/>
              </a:rPr>
              <a:t>     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5480" y="15033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thickness anomaly (m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54760" y="14842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Ice velocities anomaly (m/yr)</a:t>
            </a:r>
            <a:r>
              <a:rPr b="0" i="1" lang="es-ES_tradnl" sz="1800" spc="-1" strike="noStrike">
                <a:solidFill>
                  <a:srgbClr val="1c1c1c"/>
                </a:solidFill>
                <a:latin typeface="DIN Alternate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