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23743-C039-4A70-9F37-0CECAF7C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B49A-CDB4-4400-A555-576C17DC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E30-E17F-4400-A4D8-9602D7E7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7CD-114D-45AF-80D1-25AFFCDA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4E0-93C6-4416-A698-5CAFEB07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CA8-C254-4873-B599-230C4BA9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1CD-582D-4304-9ECF-C861168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E79-E07B-4DD2-9E79-EAC3636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C10-D2DC-4D74-967E-200EFEF4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6EE-128C-4E1D-876F-5930742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588-FF16-4C0F-9B62-2CEEBFC7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A57-C9D9-43C0-ADE3-A08E72B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DAC-EA8C-4868-B24E-F6BC9B1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5E032-9E65-45F1-9A2B-CBD6D1B51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402160" cy="7543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11640" y="652140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DIN Alternate"/>
              </a:rPr>
              <a:t>Labrador ice shelf break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9320" y="352440"/>
            <a:ext cx="197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time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r>
              <a:rPr b="0" lang="en-US" sz="1100" spc="-1" strike="noStrike">
                <a:solidFill>
                  <a:srgbClr val="4d4d4d"/>
                </a:solidFill>
                <a:latin typeface="DIN Alternate"/>
              </a:rPr>
              <a:t>yr BP</a:t>
            </a:r>
            <a:r>
              <a:rPr b="1" lang="en-US" sz="1100" spc="-1" strike="noStrike">
                <a:solidFill>
                  <a:srgbClr val="4d4d4d"/>
                </a:solidFill>
                <a:latin typeface="DIN Alternate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