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2388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6D4-456C-45C6-960C-1FF4232B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64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60D-8E7D-4659-9F0B-7843AB64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55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6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06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C99-D661-4431-9605-F2CA67B7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554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554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64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064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064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3C8-CD52-4210-8D3A-43161AB0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554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951-9FFF-412A-9E3E-5A98EF69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5D6-833A-45CE-874D-65C2B264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554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EE6-E149-40BC-8964-76A928B0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709-B590-46EA-B1C7-53274C4A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8760"/>
            <a:ext cx="822960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FEF-C08E-4099-94CA-AC62EB0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554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6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882-4F9E-4982-A304-9D167BCB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55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06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228-7941-4BDC-9DFF-DB097A6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554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64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274-7301-4728-AE7B-62B8CD8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554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78304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78304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78304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8557-5020-4735-9AE9-C40C850AB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antarcti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3880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4714920" y="333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Овал 7"/>
          <p:cNvSpPr/>
          <p:nvPr/>
        </p:nvSpPr>
        <p:spPr>
          <a:xfrm>
            <a:off x="6215040" y="3762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Овал 8"/>
          <p:cNvSpPr/>
          <p:nvPr/>
        </p:nvSpPr>
        <p:spPr>
          <a:xfrm>
            <a:off x="7929720" y="3476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9"/>
          <p:cNvSpPr/>
          <p:nvPr/>
        </p:nvSpPr>
        <p:spPr>
          <a:xfrm>
            <a:off x="7572240" y="269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10"/>
          <p:cNvSpPr/>
          <p:nvPr/>
        </p:nvSpPr>
        <p:spPr>
          <a:xfrm>
            <a:off x="7429680" y="19051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11"/>
          <p:cNvSpPr/>
          <p:nvPr/>
        </p:nvSpPr>
        <p:spPr>
          <a:xfrm>
            <a:off x="6572160" y="1119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12"/>
          <p:cNvSpPr/>
          <p:nvPr/>
        </p:nvSpPr>
        <p:spPr>
          <a:xfrm>
            <a:off x="5214960" y="6904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13"/>
          <p:cNvSpPr/>
          <p:nvPr/>
        </p:nvSpPr>
        <p:spPr>
          <a:xfrm>
            <a:off x="3857760" y="1619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14"/>
          <p:cNvSpPr/>
          <p:nvPr/>
        </p:nvSpPr>
        <p:spPr>
          <a:xfrm>
            <a:off x="1643040" y="14050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15"/>
          <p:cNvSpPr/>
          <p:nvPr/>
        </p:nvSpPr>
        <p:spPr>
          <a:xfrm>
            <a:off x="5072040" y="5048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16"/>
          <p:cNvSpPr/>
          <p:nvPr/>
        </p:nvSpPr>
        <p:spPr>
          <a:xfrm>
            <a:off x="6715080" y="5834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вал 17"/>
          <p:cNvSpPr/>
          <p:nvPr/>
        </p:nvSpPr>
        <p:spPr>
          <a:xfrm>
            <a:off x="7786800" y="4476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6219360" y="3976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4863240" y="276228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8221680" y="33336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7862760" y="2333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2"/>
          <p:cNvSpPr/>
          <p:nvPr/>
        </p:nvSpPr>
        <p:spPr>
          <a:xfrm>
            <a:off x="7580160" y="1690560"/>
            <a:ext cx="12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6575760" y="476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5005080" y="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3362040" y="97632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1860480" y="8334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4438080" y="433404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c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7934040" y="42624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7152480" y="553068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D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7T08:33:59Z</dcterms:created>
  <dc:creator>admin</dc:creator>
  <dc:description/>
  <dc:language>en-US</dc:language>
  <cp:lastModifiedBy>admin</cp:lastModifiedBy>
  <dcterms:modified xsi:type="dcterms:W3CDTF">2016-06-27T08:52:48Z</dcterms:modified>
  <cp:revision>2</cp:revision>
  <dc:subject/>
  <dc:title>Слайд 1</dc:title>
</cp:coreProperties>
</file>